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FD9-6709-4368-A6EA-A04041E3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F9A-2D42-43F8-BA33-FC563704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0E4-B995-4D65-97A2-EBDCB3B3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9EB-22FB-41D3-81F1-F7EB9A7A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C4A-8061-44CF-997A-74AD67A6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44D-8C52-4BF7-B6AB-8E40DEC9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C49-BC75-4D2F-9A54-A1E7B515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DE9-EE9E-4326-AF20-2A0C20A8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A14-99D7-4737-8398-19A59883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ECF-CEE9-4B91-B534-81187B6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2B7-4DAF-4F6D-A564-2F0A998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931-7330-4545-8A26-52A8AAC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41F0-C7F3-4EC5-B3D0-F65885479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61280" y="6421320"/>
            <a:ext cx="178272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lations in Anatomy and Image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769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rk Marw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stitute for Formal Ontology and Medical Information Science, Saarland University, Saarbruecken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partment of Diagnostic Radiology, Leipzig University, Germ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3478320"/>
            <a:ext cx="5688360" cy="3190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916360" y="765000"/>
            <a:ext cx="2663640" cy="259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580000" y="76500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lass-Level Relations between Image Entity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image_o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sic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 property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feature attribu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sic location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visual featur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lass-level relations between Image Entity Types and the F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789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5640" y="2205000"/>
            <a:ext cx="7705800" cy="3062520"/>
            <a:chOff x="755640" y="2205000"/>
            <a:chExt cx="7705800" cy="3062520"/>
          </a:xfrm>
        </p:grpSpPr>
        <p:sp>
          <p:nvSpPr>
            <p:cNvPr id="91" name=""/>
            <p:cNvSpPr/>
            <p:nvPr/>
          </p:nvSpPr>
          <p:spPr>
            <a:xfrm>
              <a:off x="755640" y="2636640"/>
              <a:ext cx="28083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natomical Image 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8360" y="285264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1640" y="249228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image_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867280" y="2205000"/>
              <a:ext cx="2016000" cy="1512720"/>
              <a:chOff x="5867280" y="2205000"/>
              <a:chExt cx="2016000" cy="1512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5940000" y="2780640"/>
                <a:ext cx="1800360" cy="732240"/>
                <a:chOff x="5940000" y="2780640"/>
                <a:chExt cx="1800360" cy="732240"/>
              </a:xfrm>
            </p:grpSpPr>
            <p:cxnSp>
              <p:nvCxnSpPr>
                <p:cNvPr id="96" name="_s53254"/>
                <p:cNvCxnSpPr>
                  <a:stCxn id="97" idx="0"/>
                  <a:endCxn id="98" idx="2"/>
                </p:cNvCxnSpPr>
                <p:nvPr/>
              </p:nvCxnSpPr>
              <p:spPr>
                <a:xfrm flipV="1" rot="16200000">
                  <a:off x="7081560" y="2831400"/>
                  <a:ext cx="147240" cy="63000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" name="_s53255"/>
                <p:cNvCxnSpPr>
                  <a:stCxn id="100" idx="0"/>
                  <a:endCxn id="98" idx="2"/>
                </p:cNvCxnSpPr>
                <p:nvPr/>
              </p:nvCxnSpPr>
              <p:spPr>
                <a:xfrm flipV="1">
                  <a:off x="6840360" y="3072960"/>
                  <a:ext cx="1080" cy="14724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" name="_s53256"/>
                <p:cNvCxnSpPr>
                  <a:stCxn id="102" idx="0"/>
                  <a:endCxn id="98" idx="2"/>
                </p:cNvCxnSpPr>
                <p:nvPr/>
              </p:nvCxnSpPr>
              <p:spPr>
                <a:xfrm flipH="1" flipV="1" rot="5400000">
                  <a:off x="6451920" y="2831040"/>
                  <a:ext cx="147240" cy="63144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98" name="_s53257"/>
                <p:cNvSpPr/>
                <p:nvPr/>
              </p:nvSpPr>
              <p:spPr>
                <a:xfrm>
                  <a:off x="6569640" y="2780640"/>
                  <a:ext cx="54144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_s53258"/>
                <p:cNvSpPr/>
                <p:nvPr/>
              </p:nvSpPr>
              <p:spPr>
                <a:xfrm>
                  <a:off x="594000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_s53259"/>
                <p:cNvSpPr/>
                <p:nvPr/>
              </p:nvSpPr>
              <p:spPr>
                <a:xfrm>
                  <a:off x="657000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_s53260"/>
                <p:cNvSpPr/>
                <p:nvPr/>
              </p:nvSpPr>
              <p:spPr>
                <a:xfrm>
                  <a:off x="720036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6011640" y="2205000"/>
                <a:ext cx="165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Anatomical Entity (FM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280" y="2205000"/>
                <a:ext cx="201600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580000" y="4868640"/>
              <a:ext cx="2881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athological Image 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2920" y="4868640"/>
              <a:ext cx="2305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4000" y="31417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4360" y="37177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340000" y="31417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492000" y="5084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51280" y="4653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fe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563640" y="3213000"/>
              <a:ext cx="280836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7640" y="3429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ubrelations of has_fea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to annotate properties to anatomical and 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gl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Image Ent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vertebral bod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al Image Ent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in he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compositio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or [Patholog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compositio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stic [Attribute:Composition]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density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[Anatom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density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podense [Attribute:Density]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 (or contrast phase).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amoun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nodule [Patholog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amoun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le [Attribute:Amount]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se of Relations in Medical Ima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486080"/>
            <a:ext cx="511344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GeneralFeature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ulmonary embolism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timing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Anatomical Image Entity]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MorphologyFeature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upper right lobe of right lu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marg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spi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shap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composi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vidence for malignant neoplasm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Anatom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MorphologyFeatu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yroid gland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siz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Anatom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MorphologyFeatu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Anatomical Image Entity]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lar lymph nod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compositio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lc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anuloma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lobe of left lu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vidence fo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uberculosis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timing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170028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sease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328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30686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45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7340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43657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609300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sease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6720" y="63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532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tities of two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dy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e Entities (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dependent entitie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truction of an Imaging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e Entity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atomical Image ent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hological Image Ent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atu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lass level relations between Image Entity Types (and the F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plication Ontology (RadiO) for Diagnostic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notating image features to Anatomical and Pathological Image ent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riteria for Pathological Image Entities: Tracking the use of relations between image entity types to discriminate image features of disea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parating/linking of an Imaging Ontology from/to other Ontologies of Diseases/Diagn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5950080"/>
            <a:ext cx="3024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lignant ne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st-tubercu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429000"/>
            <a:ext cx="78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tthew Field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rry Smit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niel Rub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dLex Committe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O relation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atomical Entities (Foundational Model of Anatomy, F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ations in Anatomy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tic Domain of Medial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 Entit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ations between Image Entit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uilding an Imaging Ontology (Rad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BO relation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ree types of binary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class, class &gt;: e.g.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ung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is_a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bular or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instance, class &gt;: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instance_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is particular „lung“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instance_of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lass 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instance, instance &gt;: instance-level relation, e.g.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is particular instance of „right lower lobe of lung“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this particular instance of „right lung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lations between classes represent what is general i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reality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lass lev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u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is_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lobular or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stance lev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is particular instance of lung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is_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particular instance of lobular org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natomical Ontologies (F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lass level-re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Structural Relationship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etween Anatomical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undary (bounded_b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rtonomy (part_of, regional_part_of, constitutional_part_of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patial Associ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ocation (located_in, contained_in, adjecent_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rientation (coordinate, latera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nnectivity (continuous_with, attached_t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roperties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f Anatomical Enti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men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anonical Anatomical Entity - L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cal Imaging is concerned with diagnosing dis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w we come from an image to a diagnosi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hat kind of entities exist on the image and how do they relate to each oth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age Entity 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atomical Image Ent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42210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dependent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ing body en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16000" y="1628640"/>
            <a:ext cx="6781680" cy="4248360"/>
            <a:chOff x="1116000" y="1628640"/>
            <a:chExt cx="6781680" cy="42483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260360" y="4511520"/>
              <a:ext cx="221760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116000" y="2235240"/>
              <a:ext cx="130176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3635280" y="2560680"/>
              <a:ext cx="174636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011640" y="3716280"/>
              <a:ext cx="1440000" cy="21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6227640" y="1628640"/>
              <a:ext cx="1670040" cy="173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900000" y="1628640"/>
            <a:ext cx="7128000" cy="4427640"/>
            <a:chOff x="900000" y="1628640"/>
            <a:chExt cx="7128000" cy="442764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900000" y="2060640"/>
              <a:ext cx="165564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6084720" y="1628640"/>
              <a:ext cx="194328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5868720" y="3716280"/>
              <a:ext cx="201636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>
              <a:off x="1260360" y="4510080"/>
              <a:ext cx="2232000" cy="15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0"/>
            <a:stretch/>
          </p:blipFill>
          <p:spPr>
            <a:xfrm>
              <a:off x="3492360" y="2492280"/>
              <a:ext cx="1943280" cy="18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Entity Types –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atomical Image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2808360" cy="2116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63560" y="3780000"/>
            <a:ext cx="32868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71640" y="4724280"/>
            <a:ext cx="3095640" cy="179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325764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>
            <a:off x="5435640" y="2637000"/>
            <a:ext cx="122400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773000" y="4068720"/>
            <a:ext cx="422280" cy="188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Entity Types – Pathological Image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ich diseases can be inferred from ima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at kind of image features do diseases ha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oes a disease have in any case identical image featu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f not, what are criteria which give evidence for a dise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1916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7:14:41Z</dcterms:created>
  <dc:creator>r9marw</dc:creator>
  <dc:description/>
  <dc:language>en-US</dc:language>
  <cp:lastModifiedBy>Dirk</cp:lastModifiedBy>
  <dcterms:modified xsi:type="dcterms:W3CDTF">2006-03-24T23:48:01Z</dcterms:modified>
  <cp:revision>795</cp:revision>
  <dc:subject/>
  <dc:title>Relations in Image Ontologies</dc:title>
</cp:coreProperties>
</file>